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A38D-BB71-40FE-BE22-DC7AB4B87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5658-7782-460A-A6D7-2A74BAA7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B3AF-B14C-4F9E-9507-968C14B9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609B-7C7C-423A-A0CF-856A0F978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3A88-938D-4A8B-8F8D-AD598F4C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E66B-AFF0-456D-ACFA-1A1529B2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DC66-14E9-4502-BB13-01002CD9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96CB-BA56-470F-BD7B-8AAD218F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C3C5-AA4B-4CB1-8411-332C3A78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A28C-FEFB-4002-8D7E-659128EF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8CC8-4377-4D50-A925-A883A5C2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4259-6E64-4A37-AB7A-F62CA45A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FBF4-371A-4BB8-9537-3F550C971AF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       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                                                      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by: Merylinda Santiago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Picture 4" descr="Google Directory"/>
          <p:cNvPicPr/>
          <p:nvPr/>
        </p:nvPicPr>
        <p:blipFill>
          <a:blip r:embed="rId1"/>
          <a:stretch/>
        </p:blipFill>
        <p:spPr>
          <a:xfrm>
            <a:off x="2438280" y="2057400"/>
            <a:ext cx="4114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What is Google Directory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t’s the web organized by topic into categori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ts created by volunteer human-subject matter experts who contribute to the Open Directory Projec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entries are then ranked by Google’s “PageRank” algorithm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rcRect l="0" t="13838" r="0" b="4688"/>
          <a:stretch/>
        </p:blipFill>
        <p:spPr>
          <a:xfrm>
            <a:off x="4419720" y="1676520"/>
            <a:ext cx="45720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onsider using it to…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miliarize yourself with a topic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et suggestions for ways to narrow your search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nd ideas for query term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gure out the scope of a given category, e.g., the number of newspapers in Californi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iew only pages that have been evaluated by a human edito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Lets Explore a Topic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rcRect l="0" t="13767" r="0" b="5167"/>
          <a:stretch/>
        </p:blipFill>
        <p:spPr>
          <a:xfrm>
            <a:off x="152280" y="1523880"/>
            <a:ext cx="4191120" cy="4953240"/>
          </a:xfrm>
          <a:prstGeom prst="rect">
            <a:avLst/>
          </a:prstGeom>
          <a:ln w="0">
            <a:noFill/>
          </a:ln>
        </p:spPr>
      </p:pic>
      <p:cxnSp>
        <p:nvCxnSpPr>
          <p:cNvPr id="50" name="Straight Arrow Connector 6"/>
          <p:cNvCxnSpPr/>
          <p:nvPr/>
        </p:nvCxnSpPr>
        <p:spPr>
          <a:xfrm flipV="1">
            <a:off x="533520" y="761400"/>
            <a:ext cx="457920" cy="11437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51" name="TextBox 7"/>
          <p:cNvSpPr/>
          <p:nvPr/>
        </p:nvSpPr>
        <p:spPr>
          <a:xfrm>
            <a:off x="304920" y="304920"/>
            <a:ext cx="1752480" cy="3682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Kids and Teen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52" name="Straight Arrow Connector 9"/>
          <p:cNvCxnSpPr/>
          <p:nvPr/>
        </p:nvCxnSpPr>
        <p:spPr>
          <a:xfrm>
            <a:off x="1141920" y="3123720"/>
            <a:ext cx="1143720" cy="17535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53" name="TextBox 10"/>
          <p:cNvSpPr/>
          <p:nvPr/>
        </p:nvSpPr>
        <p:spPr>
          <a:xfrm>
            <a:off x="1752480" y="5029200"/>
            <a:ext cx="1828800" cy="6426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Calibri"/>
              </a:rPr>
              <a:t>Results based on category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2"/>
          <a:srcRect l="0" t="13635" r="0" b="6061"/>
          <a:stretch/>
        </p:blipFill>
        <p:spPr>
          <a:xfrm>
            <a:off x="4800600" y="1523880"/>
            <a:ext cx="4038480" cy="49532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6"/>
          <p:cNvSpPr/>
          <p:nvPr/>
        </p:nvSpPr>
        <p:spPr>
          <a:xfrm>
            <a:off x="8001000" y="2890800"/>
            <a:ext cx="990720" cy="10674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ypes of Games and PageRank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56" name="Straight Arrow Connector 18"/>
          <p:cNvCxnSpPr/>
          <p:nvPr/>
        </p:nvCxnSpPr>
        <p:spPr>
          <a:xfrm flipH="1" flipV="1">
            <a:off x="7086240" y="2971080"/>
            <a:ext cx="838800" cy="3056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23"/>
          <p:cNvCxnSpPr/>
          <p:nvPr/>
        </p:nvCxnSpPr>
        <p:spPr>
          <a:xfrm flipH="1">
            <a:off x="7009920" y="3276360"/>
            <a:ext cx="915120" cy="10674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heck it out…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b0f0"/>
                </a:solidFill>
                <a:latin typeface="Calibri"/>
              </a:rPr>
              <a:t>www.directory.google.co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17:23:52Z</dcterms:created>
  <dc:creator>merylinda</dc:creator>
  <dc:description/>
  <dc:language>en-US</dc:language>
  <cp:lastModifiedBy>merylinda</cp:lastModifiedBy>
  <dcterms:modified xsi:type="dcterms:W3CDTF">2011-03-03T18:16:02Z</dcterms:modified>
  <cp:revision>7</cp:revision>
  <dc:subject/>
  <dc:title>Slide 1</dc:title>
</cp:coreProperties>
</file>